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5916-0AC5-495B-B059-B07DC4597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markers - cell identity (useful in immune response as well as cell-to-cell communication), blood type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ptor sites - receptors for insulin allow cell to become more permeable to sug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learn.genetics.utah.edu/content/disorders/whataregd/cf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 also called plasma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nature.com/scitable/topicpage/endoplasmic-reticulum-golgi-apparatus-and-lysosomes-140533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Page 86, Question 1:  Our current view of membrane structure is based on the fluid mosaic model.  What does the word “fluid” refer to in the expression “fluid mosaic model”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en.labs.wikimedia.org/wiki/Anatomy_and_Physiology_of_Animals/The_Cel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teins are peripheral (bound loosely to surface of cell membra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teins are integral (penetrate cell membrane, usually across the whole membra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micro.magnet.fsu.edu/cells/plasmamembrane/plasmamembrane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yperphysics.phy-astr.gsu.edu/hbase/biology/celmem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wikip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.miami.edu/tom/courses/bil255/bil255goods/12_membran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markers - cell identity (useful in immune response as well as cell-to-cell communication), blood type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ptor sites - receptors for insulin allow cell to become more permeable to sug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1B5E-8067-4643-8D3E-4093A79AC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6FFC-AED4-4B94-B389-96133B65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4A80-7C1F-4CCE-89E9-51E53F607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CAF7-7290-47CE-ADEA-10D4F7F1D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6959-1B87-404F-B994-A9C6CF46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E055-6D04-483B-AF6C-AA8BAF57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2550-4C2C-4A42-8ADD-CCD883E4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963B-9801-4202-A724-17722FE8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4906-A7AB-4441-A89E-7D0E5762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146B-2BB7-46C2-90EB-11A5316F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EC14-B610-4FBB-8502-462B067B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70F5-7BDD-452C-A218-C1E670EE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592C-5089-4F04-85C9-7A63EF82E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LKN5sq5dtW4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Membra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&amp; Functions     2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brane 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main fun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atic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ggering signals, e.g., 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achment and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membrane anim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LKN5sq5dtW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stic Fibr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ssive dis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 mutation causes abnormal CFTR protein (a membrane transport prote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343400" y="2217600"/>
            <a:ext cx="449568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sma Membr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rounds all living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arates cell contents from external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ible for transport of substances in and out of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Membr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for specialization &amp; separation of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nuclear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191120" y="2217600"/>
            <a:ext cx="4495680" cy="37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Membran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than 10 nm thick (textbook page is 100000 nm thi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spholipid bi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in molecules embedded in bi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id mosaic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48320" y="3092400"/>
            <a:ext cx="380988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Membran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82640" y="1981080"/>
            <a:ext cx="7578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1341360"/>
            <a:ext cx="7772400" cy="40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spholip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phobic tails, and hydrophilic h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idity depends on type of fatty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rol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to stabilize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48320" y="2724120"/>
            <a:ext cx="380988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ols in Bil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863720" y="1981080"/>
            <a:ext cx="5416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brane 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ycoproteins provide cells with unique ma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l membrane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pheral membrane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9T17:08:18Z</dcterms:created>
  <dc:creator>rubina khan</dc:creator>
  <dc:description/>
  <dc:language>en-US</dc:language>
  <cp:lastModifiedBy>rubina khan</cp:lastModifiedBy>
  <dcterms:modified xsi:type="dcterms:W3CDTF">2013-09-24T17:58:58Z</dcterms:modified>
  <cp:revision>136</cp:revision>
  <dc:subject/>
  <dc:title>PowerPoint Presentation</dc:title>
</cp:coreProperties>
</file>